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851A-54C0-4A76-A4F8-0618877C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D1B0-1068-47C4-908D-0A14F7A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B608-8554-4A1F-9D21-ED35A0B3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6368-0089-4CCD-BC24-F4D0BDDF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BECC-CF56-4C8C-A8FC-5E4A6ADB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2146-82B2-48F6-A962-B1D9907A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2F02-1BE9-47EA-B1BD-9DA1CA98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A53F-BCCF-4C5F-A753-82045B70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A05-B47A-442C-8E8B-694284EB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6888-017F-4433-8015-2CEA28E5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19B7-2D01-439B-84D8-908D6F8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6246-7C10-41E5-A5C9-99841C14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CB4-CC99-4F0C-B5A5-B196F2D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AF74-A127-4E6A-990E-4E9849D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01A-1DCC-4B87-82E5-C4AC8CA2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3568-DBE2-44BE-9DBB-69D9B634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03CE-42F5-455D-9432-9AC295DB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5B11-71EA-4907-A424-F1E46BE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F37F-DDBC-47D3-AB31-4B2B84F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D829-ADCD-4191-B0B0-E7C12960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60027-D0C5-4051-AFAA-443AC0EB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CDE4E-18FF-42B9-A1AD-6C43263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4D70-D40D-4767-96CE-93B137E9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5C24-859B-4319-919B-71C53D24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BD4F-77FB-45AF-A686-3875AF3067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3395-751A-4EDE-8033-6024F38C61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2600"/>
            <a:ext cx="7772400" cy="6832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838080" y="0"/>
            <a:ext cx="7620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bf25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и герои Великой Отечественной вой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ebf25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-92" t="12085" r="0" b="13351"/>
          <a:stretch/>
        </p:blipFill>
        <p:spPr>
          <a:xfrm>
            <a:off x="0" y="0"/>
            <a:ext cx="471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8699" t="-472" r="0" b="0"/>
          <a:stretch/>
        </p:blipFill>
        <p:spPr>
          <a:xfrm>
            <a:off x="4343400" y="2895480"/>
            <a:ext cx="480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Леня Голиков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14800" y="91404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Бесстрашное имя – награда герою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Он вашим ровесником был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Споёмте о том, как любимец отряда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Бесстрашно в разведку ходи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Споемте о том, как летали с пути эшелоны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Которые он подрыва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сем сердцем в победу грядущую верил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 бою он отчаянным бы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едаром однажды фашистcкого зверя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 чинах генеральских подбил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Вернулся в отряд он с бесценным пакетом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Уснул у костра на земле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е снилось ему, что о подвиге этом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 утро узнают в Кремле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Что будет герою Звезда золотая -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града за воинский труд.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Что люди, о подвиге славном мечтая,</a:t>
            </a:r>
            <a:br>
              <a:rPr sz="2000"/>
            </a:b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На Лёньку равненье возьму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083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9464" r="0" b="14856"/>
          <a:stretch/>
        </p:blipFill>
        <p:spPr>
          <a:xfrm>
            <a:off x="3952800" y="609480"/>
            <a:ext cx="5191200" cy="4876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9685" t="8138" r="4528" b="712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724280" y="228600"/>
            <a:ext cx="403884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ерои минувших немеркнущих л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их не забыли, девчонок, мальчиш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ья жизнь молодая за нас отда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в сердце своём, как на знамени, пиш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стые и гордые ИХ ИМЕНА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42920"/>
            <a:ext cx="403884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строках, историей ставш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 прошлой священной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итаем о сверстниках наш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гибших в фашистском огне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28600"/>
            <a:ext cx="403884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кажется, снова в борьбе и в пох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годня в рядах своих верных друз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ликов Лён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бинин Волод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тик, Матвее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ерев, Ка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авьтесь в веках пионеры – геро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Tahoma"/>
              </a:rPr>
              <a:t>9 мая  65 лет Великой Побед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448160" cy="4003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0" y="1676520"/>
            <a:ext cx="47242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ашаева Надежда Геннадиевна                                   учитель технологи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дагог- органи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ОУ «Кутемин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752480" y="990720"/>
            <a:ext cx="6172200" cy="38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умела гроза над землею,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жали мальчишки в бою…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ет народ: пионеры-геро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вечно остались в строю!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3000" y="380880"/>
            <a:ext cx="65912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2 июня 1941 году началась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ликая Отечественная война</a:t>
            </a:r>
            <a:endParaRPr b="0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808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411360" cy="4724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51360" cy="3257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7499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27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2951280"/>
            <a:ext cx="5867280" cy="390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354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f25a"/>
                </a:solidFill>
                <a:latin typeface="Tahoma"/>
              </a:rPr>
              <a:t>Валя Коти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14800" y="1828440"/>
            <a:ext cx="5029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Мы вспомним о болях тех давн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 них совершен был подвиг не од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Вошёл в семью героев наших слав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тважный мальчик Котик Вален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Он, как при жизни, утверждает смел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Бессмертна молодость, бессмертно  наше дело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6402" t="11470" r="13114" b="11470"/>
          <a:stretch/>
        </p:blipFill>
        <p:spPr>
          <a:xfrm>
            <a:off x="135000" y="1447920"/>
            <a:ext cx="3903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8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8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8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5677" t="8890" r="653" b="16669"/>
          <a:stretch/>
        </p:blipFill>
        <p:spPr>
          <a:xfrm>
            <a:off x="3809880" y="609480"/>
            <a:ext cx="50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bf25a"/>
                </a:solidFill>
                <a:latin typeface="Tahoma"/>
              </a:rPr>
              <a:t>Марат Казей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16005" t="11999" r="16005" b="11999"/>
          <a:stretch/>
        </p:blipFill>
        <p:spPr>
          <a:xfrm>
            <a:off x="0" y="1905120"/>
            <a:ext cx="3817800" cy="426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6200" y="30024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Навстречу им в своё  бессмер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Он сделал несколько шагов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И грохнул взрыв, и грозным смерч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bf25a"/>
                </a:solidFill>
                <a:latin typeface="Tahoma"/>
              </a:rPr>
              <a:t>Смело озлобленных вра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8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4416480" cy="6629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1347" t="11215" r="4624" b="14017"/>
          <a:stretch/>
        </p:blipFill>
        <p:spPr>
          <a:xfrm>
            <a:off x="4495680" y="83808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f25a"/>
                </a:solidFill>
                <a:latin typeface="Tahoma"/>
              </a:rPr>
              <a:t>Зина Портн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1120" y="1295280"/>
            <a:ext cx="3544920" cy="5181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36880" y="2057760"/>
            <a:ext cx="502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ё допрашивали четвертый день подря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Фашистский офицер, увешанный креста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й руки за спину выкручивал солда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Её хлестала плеть, её гноили в я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Угрюмый офицер сказа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Что больше нет терпенья у нег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Что это лишь начало жестких му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Каких не видел све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Но, жёлтая, как воск, она молч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8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8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8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8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8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8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8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изика</cp:lastModifiedBy>
  <dcterms:modified xsi:type="dcterms:W3CDTF">2010-04-12T08:34:1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